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67F8-4D31-460B-970A-859484B9FAA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952-96A5-463D-AA36-8AE97B1469F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9638-BB6D-43D4-818D-E2F25D8F34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048-84C9-4FED-926F-EC2652C130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475-9F9B-4446-B14D-C4407D4CF95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909A-FDD3-433A-ADC5-26805CA696F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CD0-6731-46A0-BD71-BCC202DEF39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332-5A0C-4292-AB28-8FFD011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2AF-EF14-4074-BB10-AE54F49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F39-7FB4-41C4-9C2C-11F4048D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8BD-75EE-4AF1-B18E-9450797C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53C-E818-45C3-AFEC-63D9E8D3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04C-B8A9-4F3E-A1F9-E336EFE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7B8F-6A5A-4972-88BE-778E4AC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299A-E252-4122-875D-AF12C93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47DD-6809-4637-A1AC-F49CBE1E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0270-D477-4340-B2EA-DD82D680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5460-502C-4AED-8323-59DE83A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BB5-1C3D-4D12-AB32-8BB210A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A00-5113-4BD7-897E-EC34B47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51F-4F61-4348-BA83-124791A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E96B-323D-4AA1-B99F-FF7EF4A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4E80-E504-4F14-96F6-88485F2D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18E-2C4D-467C-A6CD-A52F1E7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6F0-5DDE-4BCF-99EB-5342C0DC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6A9-8722-4012-AA5E-7768612D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948-FEFA-43BE-B5E9-6F0F589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F17-A6C1-42E0-A179-5B6A8A6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AB1-9E6A-4893-A32B-7C5D308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BAC-C524-4D72-9B8A-94C67D0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B4F-36F3-4DBC-82D1-3B321ED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7E36-D82C-4940-AA37-C1FF170D5EF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28E-2358-43BF-B399-14DD7904266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actores que afecta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dce6f2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Sus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 de la concentración  de Enzim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bre la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422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9"/>
          <p:cNvSpPr/>
          <p:nvPr/>
        </p:nvSpPr>
        <p:spPr>
          <a:xfrm>
            <a:off x="4286160" y="1643040"/>
            <a:ext cx="432144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centración saturante de sustrato,  pH y T°C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5929200" y="2714760"/>
            <a:ext cx="3357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Se establece la relación en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Cantidad y Actividad de enz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Velocidad de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directamente proporcional a la concentración 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2 CuadroTexto"/>
          <p:cNvSpPr/>
          <p:nvPr/>
        </p:nvSpPr>
        <p:spPr>
          <a:xfrm>
            <a:off x="5891400" y="2643120"/>
            <a:ext cx="3237840" cy="22885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Imagen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431" name="1 CuadroTexto"/>
          <p:cNvSpPr/>
          <p:nvPr/>
        </p:nvSpPr>
        <p:spPr>
          <a:xfrm>
            <a:off x="3581280" y="220500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Calibri"/>
              </a:rPr>
              <a:t>pH óp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 CuadroTexto"/>
          <p:cNvSpPr/>
          <p:nvPr/>
        </p:nvSpPr>
        <p:spPr>
          <a:xfrm>
            <a:off x="3605400" y="528624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 CuadroTexto"/>
          <p:cNvSpPr/>
          <p:nvPr/>
        </p:nvSpPr>
        <p:spPr>
          <a:xfrm>
            <a:off x="1141560" y="573264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pH óptim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aquel en el cual el estado de disociación de los grupos esenciales es el má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opiado para interaccionar en el complej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 CuadroTexto"/>
          <p:cNvSpPr/>
          <p:nvPr/>
        </p:nvSpPr>
        <p:spPr>
          <a:xfrm>
            <a:off x="5219640" y="2033640"/>
            <a:ext cx="3313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6 CuadroTexto"/>
          <p:cNvSpPr/>
          <p:nvPr/>
        </p:nvSpPr>
        <p:spPr>
          <a:xfrm>
            <a:off x="5429160" y="400068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ncentración de sustrato, E y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T°C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jemplos de enzimas con diferentes pH ópt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1692360" y="2060640"/>
          <a:ext cx="51465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1465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fluencia de la Temperatura sobre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Group 18"/>
          <p:cNvGrpSpPr/>
          <p:nvPr/>
        </p:nvGrpSpPr>
        <p:grpSpPr>
          <a:xfrm>
            <a:off x="684360" y="2781360"/>
            <a:ext cx="5987880" cy="3581280"/>
            <a:chOff x="684360" y="2781360"/>
            <a:chExt cx="5987880" cy="3581280"/>
          </a:xfrm>
        </p:grpSpPr>
        <p:sp>
          <p:nvSpPr>
            <p:cNvPr id="441" name="Text Box 10"/>
            <p:cNvSpPr/>
            <p:nvPr/>
          </p:nvSpPr>
          <p:spPr>
            <a:xfrm>
              <a:off x="3571920" y="5786280"/>
              <a:ext cx="24289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emperatura(°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444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13"/>
          <p:cNvSpPr/>
          <p:nvPr/>
        </p:nvSpPr>
        <p:spPr>
          <a:xfrm>
            <a:off x="4357800" y="24289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emperatura  ó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20"/>
          <p:cNvGrpSpPr/>
          <p:nvPr/>
        </p:nvGrpSpPr>
        <p:grpSpPr>
          <a:xfrm>
            <a:off x="2737440" y="2162880"/>
            <a:ext cx="1506960" cy="1804320"/>
            <a:chOff x="2737440" y="2162880"/>
            <a:chExt cx="1506960" cy="1804320"/>
          </a:xfrm>
        </p:grpSpPr>
        <p:sp>
          <p:nvSpPr>
            <p:cNvPr id="451" name="AutoShape 14"/>
            <p:cNvSpPr/>
            <p:nvPr/>
          </p:nvSpPr>
          <p:spPr>
            <a:xfrm rot="17883600">
              <a:off x="2698560" y="263340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5"/>
            <p:cNvSpPr/>
            <p:nvPr/>
          </p:nvSpPr>
          <p:spPr>
            <a:xfrm flipH="1" flipV="1">
              <a:off x="2857320" y="349272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 flipH="1" flipV="1">
              <a:off x="3286800" y="3262320"/>
              <a:ext cx="19044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5"/>
          <p:cNvGrpSpPr/>
          <p:nvPr/>
        </p:nvGrpSpPr>
        <p:grpSpPr>
          <a:xfrm>
            <a:off x="5060160" y="2793960"/>
            <a:ext cx="2284560" cy="1557360"/>
            <a:chOff x="5060160" y="2793960"/>
            <a:chExt cx="2284560" cy="1557360"/>
          </a:xfrm>
        </p:grpSpPr>
        <p:sp>
          <p:nvSpPr>
            <p:cNvPr id="455" name="AutoShape 22"/>
            <p:cNvSpPr/>
            <p:nvPr/>
          </p:nvSpPr>
          <p:spPr>
            <a:xfrm rot="20346600">
              <a:off x="5143680" y="3142800"/>
              <a:ext cx="2117520" cy="85896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de temperatura provoca desnaturaliz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3"/>
            <p:cNvSpPr/>
            <p:nvPr/>
          </p:nvSpPr>
          <p:spPr>
            <a:xfrm flipH="1" flipV="1">
              <a:off x="5251320" y="3573000"/>
              <a:ext cx="95040" cy="29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19 Rayo"/>
          <p:cNvSpPr/>
          <p:nvPr/>
        </p:nvSpPr>
        <p:spPr>
          <a:xfrm rot="4120200">
            <a:off x="4565160" y="2684520"/>
            <a:ext cx="357120" cy="84276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0 CuadroTexto"/>
          <p:cNvSpPr/>
          <p:nvPr/>
        </p:nvSpPr>
        <p:spPr>
          <a:xfrm>
            <a:off x="5429160" y="1643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centración de S, E y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1 CuadroTexto"/>
          <p:cNvSpPr/>
          <p:nvPr/>
        </p:nvSpPr>
        <p:spPr>
          <a:xfrm>
            <a:off x="5248080" y="1643040"/>
            <a:ext cx="313416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6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5616360" cy="452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fluencia de la concentración de Sustrato sobre la velocidad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6 CuadroTexto"/>
          <p:cNvSpPr/>
          <p:nvPr/>
        </p:nvSpPr>
        <p:spPr>
          <a:xfrm>
            <a:off x="6534000" y="128592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[E], pH, T°C: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7 CuadroTexto"/>
          <p:cNvSpPr/>
          <p:nvPr/>
        </p:nvSpPr>
        <p:spPr>
          <a:xfrm>
            <a:off x="6725880" y="21430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urva hiper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ángulo 4"/>
          <p:cNvSpPr/>
          <p:nvPr/>
        </p:nvSpPr>
        <p:spPr>
          <a:xfrm>
            <a:off x="1886760" y="180000"/>
            <a:ext cx="53272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alibri"/>
              </a:rPr>
              <a:t>ECUACIÓN DE MICHAELIS- 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Cinética del estado estacion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Imagen 18" descr=""/>
          <p:cNvPicPr/>
          <p:nvPr/>
        </p:nvPicPr>
        <p:blipFill>
          <a:blip r:embed="rId1"/>
          <a:stretch/>
        </p:blipFill>
        <p:spPr>
          <a:xfrm>
            <a:off x="500040" y="2073240"/>
            <a:ext cx="2786040" cy="12844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467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ángulo 21"/>
          <p:cNvSpPr/>
          <p:nvPr/>
        </p:nvSpPr>
        <p:spPr>
          <a:xfrm>
            <a:off x="656640" y="5219640"/>
            <a:ext cx="3911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i="1" lang="es-AR" sz="1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inicial de la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máx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Km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stante de Micha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[S]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centración del 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Imagen 22" descr=""/>
          <p:cNvPicPr/>
          <p:nvPr/>
        </p:nvPicPr>
        <p:blipFill>
          <a:blip r:embed="rId2"/>
          <a:stretch/>
        </p:blipFill>
        <p:spPr>
          <a:xfrm>
            <a:off x="4532400" y="1857240"/>
            <a:ext cx="4437000" cy="3544920"/>
          </a:xfrm>
          <a:prstGeom prst="rect">
            <a:avLst/>
          </a:prstGeom>
          <a:ln w="0">
            <a:noFill/>
          </a:ln>
        </p:spPr>
      </p:pic>
      <p:sp>
        <p:nvSpPr>
          <p:cNvPr id="470" name="1 CuadroTexto"/>
          <p:cNvSpPr/>
          <p:nvPr/>
        </p:nvSpPr>
        <p:spPr>
          <a:xfrm>
            <a:off x="6765480" y="185724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acción de orden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3 Conector angular"/>
          <p:cNvCxnSpPr/>
          <p:nvPr/>
        </p:nvCxnSpPr>
        <p:spPr>
          <a:xfrm flipH="1" rot="16200000">
            <a:off x="7940520" y="208764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72" name="4 Rectángulo"/>
          <p:cNvSpPr/>
          <p:nvPr/>
        </p:nvSpPr>
        <p:spPr>
          <a:xfrm>
            <a:off x="6196680" y="42591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de 1° 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Imagen 18" descr=""/>
          <p:cNvPicPr/>
          <p:nvPr/>
        </p:nvPicPr>
        <p:blipFill>
          <a:blip r:embed="rId3"/>
          <a:stretch/>
        </p:blipFill>
        <p:spPr>
          <a:xfrm>
            <a:off x="5072040" y="4275000"/>
            <a:ext cx="1042920" cy="268560"/>
          </a:xfrm>
          <a:prstGeom prst="rect">
            <a:avLst/>
          </a:prstGeom>
          <a:ln w="0">
            <a:noFill/>
          </a:ln>
        </p:spPr>
      </p:pic>
      <p:sp>
        <p:nvSpPr>
          <p:cNvPr id="474" name="21 CuadroTexto"/>
          <p:cNvSpPr/>
          <p:nvPr/>
        </p:nvSpPr>
        <p:spPr>
          <a:xfrm>
            <a:off x="234000" y="4879800"/>
            <a:ext cx="4241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s-A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=     Velocidad inicial d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máx= Velocidad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Km=   constante de Micha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[S]=   concentración del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2 CuadroTexto"/>
          <p:cNvSpPr/>
          <p:nvPr/>
        </p:nvSpPr>
        <p:spPr>
          <a:xfrm>
            <a:off x="1234440" y="357120"/>
            <a:ext cx="5714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4"/>
          <a:stretch/>
        </p:blipFill>
        <p:spPr>
          <a:xfrm>
            <a:off x="1857240" y="1011240"/>
            <a:ext cx="4000680" cy="917640"/>
          </a:xfrm>
          <a:prstGeom prst="rect">
            <a:avLst/>
          </a:prstGeom>
          <a:ln w="0">
            <a:noFill/>
          </a:ln>
        </p:spPr>
      </p:pic>
      <p:sp>
        <p:nvSpPr>
          <p:cNvPr id="477" name="27 CuadroTexto"/>
          <p:cNvSpPr/>
          <p:nvPr/>
        </p:nvSpPr>
        <p:spPr>
          <a:xfrm>
            <a:off x="788760" y="3929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3 CuadroTexto"/>
          <p:cNvSpPr/>
          <p:nvPr/>
        </p:nvSpPr>
        <p:spPr>
          <a:xfrm>
            <a:off x="857160" y="3643200"/>
            <a:ext cx="2071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1 Rectángulo"/>
          <p:cNvSpPr/>
          <p:nvPr/>
        </p:nvSpPr>
        <p:spPr>
          <a:xfrm>
            <a:off x="2071800" y="2500200"/>
            <a:ext cx="65721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Calibri"/>
              </a:rPr>
              <a:t>Constante de Michaelis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característica de una enzima y su sustrato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fleja la afinidad del sustrato por la enzima, en relación inver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menor Km          mayor afinidad E por el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Km es numéricamente igual a la concentración del sustrato que corresponde a una velocidad de reacción igual a la mitad de la velocidad máx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condiciones definidas de pH, T°C, Km tiene un valor fijo para cada enzima y sirve para caracteriz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 CuadroTexto"/>
          <p:cNvSpPr/>
          <p:nvPr/>
        </p:nvSpPr>
        <p:spPr>
          <a:xfrm>
            <a:off x="1500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3 CuadroTexto"/>
          <p:cNvSpPr/>
          <p:nvPr/>
        </p:nvSpPr>
        <p:spPr>
          <a:xfrm>
            <a:off x="500040" y="357120"/>
            <a:ext cx="77868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4 CuadroTexto"/>
          <p:cNvSpPr/>
          <p:nvPr/>
        </p:nvSpPr>
        <p:spPr>
          <a:xfrm>
            <a:off x="0" y="4929120"/>
            <a:ext cx="2071800" cy="10504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071800" cy="571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4670280" cy="1071360"/>
          </a:xfrm>
          <a:prstGeom prst="rect">
            <a:avLst/>
          </a:prstGeom>
          <a:ln w="0">
            <a:noFill/>
          </a:ln>
        </p:spPr>
      </p:pic>
      <p:sp>
        <p:nvSpPr>
          <p:cNvPr id="485" name="7 CuadroTexto"/>
          <p:cNvSpPr/>
          <p:nvPr/>
        </p:nvSpPr>
        <p:spPr>
          <a:xfrm>
            <a:off x="3228840" y="2000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m,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onstante de Mich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8 Flecha derecha"/>
          <p:cNvSpPr/>
          <p:nvPr/>
        </p:nvSpPr>
        <p:spPr>
          <a:xfrm>
            <a:off x="4429080" y="45720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788000" y="2021040"/>
            <a:ext cx="4356000" cy="3836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áfica doble recíproca o d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Lineweaver-Bu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Imagen 6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3143160" cy="1074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90" name="7 CuadroTexto"/>
          <p:cNvSpPr/>
          <p:nvPr/>
        </p:nvSpPr>
        <p:spPr>
          <a:xfrm>
            <a:off x="155880" y="3786120"/>
            <a:ext cx="42285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Ordenada al Origen = 1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Pendiente = Km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Intersección con eje X = - 1 /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HIBICIÓN ENZIM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324000" y="2133720"/>
            <a:ext cx="3024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52280" y="4292640"/>
            <a:ext cx="27432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284720" y="170028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Análogos del estado de tran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497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7"/>
          <p:cNvGrpSpPr/>
          <p:nvPr/>
        </p:nvGrpSpPr>
        <p:grpSpPr>
          <a:xfrm>
            <a:off x="2895480" y="6027840"/>
            <a:ext cx="6095880" cy="604080"/>
            <a:chOff x="2895480" y="6027840"/>
            <a:chExt cx="6095880" cy="604080"/>
          </a:xfrm>
        </p:grpSpPr>
        <p:sp>
          <p:nvSpPr>
            <p:cNvPr id="501" name="Text Box 14"/>
            <p:cNvSpPr/>
            <p:nvPr/>
          </p:nvSpPr>
          <p:spPr>
            <a:xfrm>
              <a:off x="2895480" y="61722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4724280" y="6332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6"/>
            <p:cNvSpPr/>
            <p:nvPr/>
          </p:nvSpPr>
          <p:spPr>
            <a:xfrm>
              <a:off x="6146640" y="6027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Calibri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22"/>
          <p:cNvSpPr/>
          <p:nvPr/>
        </p:nvSpPr>
        <p:spPr>
          <a:xfrm>
            <a:off x="3564000" y="155736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507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Rectángulo"/>
          <p:cNvSpPr/>
          <p:nvPr/>
        </p:nvSpPr>
        <p:spPr>
          <a:xfrm>
            <a:off x="571680" y="357120"/>
            <a:ext cx="75722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Calibri"/>
              </a:rPr>
              <a:t>PROGRAMA ANALITICO Y/O DE EXAMEN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71280" y="1071720"/>
            <a:ext cx="8929800" cy="5514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70c0"/>
                </a:solidFill>
                <a:uFillTx/>
                <a:latin typeface="Arial"/>
              </a:rPr>
              <a:t>Bolilla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, importancia de las Vitaminas. Grupos Prostéticos. Compartimental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mplejo ES- Actividad Enzimática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Unidad de enzima- Actividad específica- Actividad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Factores que afectan la actividad enzimatica: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[Enzima]- pH – T- [S], Ecuación de Michaelis Menten y Ecuación de Lineweaver Burk-  Inhibición de las enzimas, 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Regulación Enzimática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Enzimas alostéricas (propiedades y cinética)- Regulación Covalente-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Isoenzimas: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ropiedades e importancia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514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79"/>
          <p:cNvGrpSpPr/>
          <p:nvPr/>
        </p:nvGrpSpPr>
        <p:grpSpPr>
          <a:xfrm>
            <a:off x="971640" y="2924280"/>
            <a:ext cx="576000" cy="2241360"/>
            <a:chOff x="971640" y="2924280"/>
            <a:chExt cx="576000" cy="2241360"/>
          </a:xfrm>
        </p:grpSpPr>
        <p:sp>
          <p:nvSpPr>
            <p:cNvPr id="517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58"/>
            <p:cNvSpPr/>
            <p:nvPr/>
          </p:nvSpPr>
          <p:spPr>
            <a:xfrm>
              <a:off x="971640" y="47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523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  +  S                 ES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525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528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531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533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534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538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542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553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1476360" y="3500280"/>
            <a:ext cx="934920" cy="1240200"/>
            <a:chOff x="1476360" y="3500280"/>
            <a:chExt cx="934920" cy="1240200"/>
          </a:xfrm>
        </p:grpSpPr>
        <p:sp>
          <p:nvSpPr>
            <p:cNvPr id="558" name="Text Box 6"/>
            <p:cNvSpPr/>
            <p:nvPr/>
          </p:nvSpPr>
          <p:spPr>
            <a:xfrm>
              <a:off x="1476360" y="350028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16920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1692000" y="4221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562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8"/>
          <p:cNvGrpSpPr/>
          <p:nvPr/>
        </p:nvGrpSpPr>
        <p:grpSpPr>
          <a:xfrm>
            <a:off x="826920" y="1989000"/>
            <a:ext cx="7417080" cy="1002960"/>
            <a:chOff x="826920" y="1989000"/>
            <a:chExt cx="7417080" cy="1002960"/>
          </a:xfrm>
        </p:grpSpPr>
        <p:sp>
          <p:nvSpPr>
            <p:cNvPr id="566" name="Text Box 15"/>
            <p:cNvSpPr/>
            <p:nvPr/>
          </p:nvSpPr>
          <p:spPr>
            <a:xfrm>
              <a:off x="826920" y="1989000"/>
              <a:ext cx="741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Calibri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"/>
            <p:cNvSpPr/>
            <p:nvPr/>
          </p:nvSpPr>
          <p:spPr>
            <a:xfrm>
              <a:off x="3635280" y="2133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7"/>
            <p:cNvSpPr/>
            <p:nvPr/>
          </p:nvSpPr>
          <p:spPr>
            <a:xfrm>
              <a:off x="3419640" y="23493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19"/>
          <p:cNvSpPr/>
          <p:nvPr/>
        </p:nvSpPr>
        <p:spPr>
          <a:xfrm>
            <a:off x="1258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584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4f81bd">
                <a:alpha val="48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E  +  S                   ES  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586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589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97"/>
          <p:cNvGrpSpPr/>
          <p:nvPr/>
        </p:nvGrpSpPr>
        <p:grpSpPr>
          <a:xfrm>
            <a:off x="563400" y="3067920"/>
            <a:ext cx="427320" cy="2023920"/>
            <a:chOff x="563400" y="3067920"/>
            <a:chExt cx="427320" cy="2023920"/>
          </a:xfrm>
        </p:grpSpPr>
        <p:grpSp>
          <p:nvGrpSpPr>
            <p:cNvPr id="593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594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Rectangle 20"/>
            <p:cNvSpPr/>
            <p:nvPr/>
          </p:nvSpPr>
          <p:spPr>
            <a:xfrm>
              <a:off x="69552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2"/>
            <p:cNvSpPr/>
            <p:nvPr/>
          </p:nvSpPr>
          <p:spPr>
            <a:xfrm>
              <a:off x="687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63400" y="4723560"/>
              <a:ext cx="352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98"/>
          <p:cNvGrpSpPr/>
          <p:nvPr/>
        </p:nvGrpSpPr>
        <p:grpSpPr>
          <a:xfrm>
            <a:off x="2601360" y="3067920"/>
            <a:ext cx="461160" cy="2097000"/>
            <a:chOff x="2601360" y="3067920"/>
            <a:chExt cx="461160" cy="2097000"/>
          </a:xfrm>
        </p:grpSpPr>
        <p:grpSp>
          <p:nvGrpSpPr>
            <p:cNvPr id="600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601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Rectangle 19"/>
            <p:cNvSpPr/>
            <p:nvPr/>
          </p:nvSpPr>
          <p:spPr>
            <a:xfrm>
              <a:off x="263844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>
              <a:off x="2703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4"/>
            <p:cNvSpPr/>
            <p:nvPr/>
          </p:nvSpPr>
          <p:spPr>
            <a:xfrm>
              <a:off x="2601360" y="4796640"/>
              <a:ext cx="4611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9"/>
          <p:cNvGrpSpPr/>
          <p:nvPr/>
        </p:nvGrpSpPr>
        <p:grpSpPr>
          <a:xfrm>
            <a:off x="982800" y="4723560"/>
            <a:ext cx="1428480" cy="368280"/>
            <a:chOff x="982800" y="4723560"/>
            <a:chExt cx="1428480" cy="368280"/>
          </a:xfrm>
        </p:grpSpPr>
        <p:grpSp>
          <p:nvGrpSpPr>
            <p:cNvPr id="607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608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Rectangle 28"/>
            <p:cNvSpPr/>
            <p:nvPr/>
          </p:nvSpPr>
          <p:spPr>
            <a:xfrm>
              <a:off x="982800" y="472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9"/>
            <p:cNvSpPr/>
            <p:nvPr/>
          </p:nvSpPr>
          <p:spPr>
            <a:xfrm>
              <a:off x="1355760" y="4723560"/>
              <a:ext cx="28908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613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614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617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622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624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626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627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628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632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633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34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635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37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639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1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2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643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645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648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650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2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654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656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9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660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4"/>
          <p:cNvGrpSpPr/>
          <p:nvPr/>
        </p:nvGrpSpPr>
        <p:grpSpPr>
          <a:xfrm>
            <a:off x="1116000" y="3357720"/>
            <a:ext cx="7201080" cy="3247920"/>
            <a:chOff x="1116000" y="3357720"/>
            <a:chExt cx="7201080" cy="3247920"/>
          </a:xfrm>
        </p:grpSpPr>
        <p:pic>
          <p:nvPicPr>
            <p:cNvPr id="664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3276720" y="3357720"/>
              <a:ext cx="504036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2"/>
            <p:cNvSpPr/>
            <p:nvPr/>
          </p:nvSpPr>
          <p:spPr>
            <a:xfrm>
              <a:off x="1116000" y="44370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1116000" y="333360"/>
            <a:ext cx="6913440" cy="2959200"/>
            <a:chOff x="1116000" y="333360"/>
            <a:chExt cx="6913440" cy="2959200"/>
          </a:xfrm>
        </p:grpSpPr>
        <p:pic>
          <p:nvPicPr>
            <p:cNvPr id="670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916360" y="333360"/>
              <a:ext cx="511308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 Box 6"/>
            <p:cNvSpPr/>
            <p:nvPr/>
          </p:nvSpPr>
          <p:spPr>
            <a:xfrm>
              <a:off x="3132000" y="285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7236000" y="2924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0"/>
            <p:cNvSpPr/>
            <p:nvPr/>
          </p:nvSpPr>
          <p:spPr>
            <a:xfrm>
              <a:off x="2411280" y="404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3"/>
            <p:cNvSpPr/>
            <p:nvPr/>
          </p:nvSpPr>
          <p:spPr>
            <a:xfrm>
              <a:off x="1116000" y="155736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22"/>
          <p:cNvGrpSpPr/>
          <p:nvPr/>
        </p:nvGrpSpPr>
        <p:grpSpPr>
          <a:xfrm>
            <a:off x="468360" y="5300640"/>
            <a:ext cx="2556360" cy="1099800"/>
            <a:chOff x="468360" y="5300640"/>
            <a:chExt cx="2556360" cy="1099800"/>
          </a:xfrm>
        </p:grpSpPr>
        <p:sp>
          <p:nvSpPr>
            <p:cNvPr id="676" name="Rectangle 21"/>
            <p:cNvSpPr/>
            <p:nvPr/>
          </p:nvSpPr>
          <p:spPr>
            <a:xfrm>
              <a:off x="544320" y="5300640"/>
              <a:ext cx="248040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20"/>
            <p:cNvGrpSpPr/>
            <p:nvPr/>
          </p:nvGrpSpPr>
          <p:grpSpPr>
            <a:xfrm>
              <a:off x="468360" y="5300640"/>
              <a:ext cx="2520360" cy="1029600"/>
              <a:chOff x="468360" y="5300640"/>
              <a:chExt cx="2520360" cy="1029600"/>
            </a:xfrm>
          </p:grpSpPr>
          <p:sp>
            <p:nvSpPr>
              <p:cNvPr id="678" name="Text Box 14"/>
              <p:cNvSpPr/>
              <p:nvPr/>
            </p:nvSpPr>
            <p:spPr>
              <a:xfrm>
                <a:off x="468360" y="5560200"/>
                <a:ext cx="15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15"/>
              <p:cNvSpPr/>
              <p:nvPr/>
            </p:nvSpPr>
            <p:spPr>
              <a:xfrm>
                <a:off x="1672560" y="53006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16"/>
              <p:cNvSpPr/>
              <p:nvPr/>
            </p:nvSpPr>
            <p:spPr>
              <a:xfrm>
                <a:off x="1747440" y="58194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7"/>
              <p:cNvSpPr/>
              <p:nvPr/>
            </p:nvSpPr>
            <p:spPr>
              <a:xfrm>
                <a:off x="1193760" y="5924520"/>
                <a:ext cx="1794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Tipo de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El Inhibidor      Efecto                    Efecto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inhibición                        se une a           s/Vmáx                     s/Km</a:t>
            </a:r>
            <a:r>
              <a:rPr b="1" i="1" lang="es-ES_tradnl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Competitiva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                </a:t>
            </a: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 Ninguno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Aumenta</a:t>
            </a:r>
            <a:r>
              <a:rPr b="0" lang="es-ES_tradnl" sz="2200" spc="-1" strike="noStrike">
                <a:solidFill>
                  <a:srgbClr val="ff505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No competitiv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y 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Disminuy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Ningun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2838600" y="3419640"/>
            <a:ext cx="4876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 c/I. = Km s/Inh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 x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2857680" y="510696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áx c/I=  Vmáx. s/Inh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ción de inhibidores a distinta concentr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691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3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695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7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00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2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5486400" y="5388480"/>
              <a:ext cx="198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  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 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217440" y="2637000"/>
            <a:ext cx="8675640" cy="8625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9640" y="407664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504d"/>
                </a:solidFill>
                <a:latin typeface="Calibri"/>
              </a:rPr>
              <a:t>REGULACIO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Group 26" descr=""/>
          <p:cNvPicPr/>
          <p:nvPr/>
        </p:nvPicPr>
        <p:blipFill>
          <a:blip r:embed="rId1"/>
          <a:stretch/>
        </p:blipFill>
        <p:spPr>
          <a:xfrm>
            <a:off x="4280040" y="5145120"/>
            <a:ext cx="39067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715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718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721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724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26 Grupo"/>
          <p:cNvGrpSpPr/>
          <p:nvPr/>
        </p:nvGrpSpPr>
        <p:grpSpPr>
          <a:xfrm>
            <a:off x="1000080" y="0"/>
            <a:ext cx="7786800" cy="6402600"/>
            <a:chOff x="1000080" y="0"/>
            <a:chExt cx="7786800" cy="6402600"/>
          </a:xfrm>
        </p:grpSpPr>
        <p:sp>
          <p:nvSpPr>
            <p:cNvPr id="99" name="3 Rectángulo"/>
            <p:cNvSpPr/>
            <p:nvPr/>
          </p:nvSpPr>
          <p:spPr>
            <a:xfrm>
              <a:off x="1428480" y="1857240"/>
              <a:ext cx="6786720" cy="4545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AR" sz="2400" spc="-1" strike="noStrike">
                  <a:solidFill>
                    <a:srgbClr val="c00000"/>
                  </a:solidFill>
                  <a:latin typeface="Arial"/>
                </a:rPr>
                <a:t>Actividad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de una enzima puede determinarse midie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producto que se f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c00000"/>
                  </a:solidFill>
                  <a:latin typeface="Arial"/>
                </a:rPr>
                <a:t>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sustrato que se consu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 tiempo d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a mezcla que contenga todos los fact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requeridos para la reacció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 CuadroTexto"/>
            <p:cNvSpPr/>
            <p:nvPr/>
          </p:nvSpPr>
          <p:spPr>
            <a:xfrm>
              <a:off x="1000080" y="0"/>
              <a:ext cx="7786800" cy="9471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Comic Sans MS"/>
                </a:rPr>
                <a:t>¿Cómo se mide la Actividad de una Enzima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6 CuadroTexto"/>
            <p:cNvSpPr/>
            <p:nvPr/>
          </p:nvSpPr>
          <p:spPr>
            <a:xfrm>
              <a:off x="1571400" y="1129320"/>
              <a:ext cx="55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00000"/>
                  </a:solidFill>
                  <a:latin typeface="Arial"/>
                </a:rPr>
                <a:t>[S] + E             [ ES ]              E + [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8 Conector recto de flecha"/>
          <p:cNvCxnSpPr/>
          <p:nvPr/>
        </p:nvCxnSpPr>
        <p:spPr>
          <a:xfrm>
            <a:off x="2999880" y="128592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>
            <a:off x="4714920" y="1283760"/>
            <a:ext cx="714960" cy="2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4" name="19 Conector recto de flecha"/>
          <p:cNvCxnSpPr/>
          <p:nvPr/>
        </p:nvCxnSpPr>
        <p:spPr>
          <a:xfrm flipH="1" flipV="1">
            <a:off x="2999520" y="142848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20 Conector recto de flecha"/>
          <p:cNvCxnSpPr/>
          <p:nvPr/>
        </p:nvCxnSpPr>
        <p:spPr>
          <a:xfrm flipH="1" flipV="1">
            <a:off x="4857480" y="1428480"/>
            <a:ext cx="4291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28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729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733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38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39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PIEDADES DE LAS ENZIMAS ALOST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een un sitio de unión a un metabolito regulador (sitio alosté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unión del metabolito a la enzima es de carácter reversible y no coval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general poseen dos o mas sitios regul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general tienen un comportamiento cinético sigmoide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26"/>
          <p:cNvGrpSpPr/>
          <p:nvPr/>
        </p:nvGrpSpPr>
        <p:grpSpPr>
          <a:xfrm>
            <a:off x="468360" y="928800"/>
            <a:ext cx="8136000" cy="1156680"/>
            <a:chOff x="468360" y="928800"/>
            <a:chExt cx="8136000" cy="1156680"/>
          </a:xfrm>
        </p:grpSpPr>
        <p:sp>
          <p:nvSpPr>
            <p:cNvPr id="753" name="Line 12"/>
            <p:cNvSpPr/>
            <p:nvPr/>
          </p:nvSpPr>
          <p:spPr>
            <a:xfrm flipH="1">
              <a:off x="2285640" y="928800"/>
              <a:ext cx="85716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3"/>
            <p:cNvSpPr/>
            <p:nvPr/>
          </p:nvSpPr>
          <p:spPr>
            <a:xfrm>
              <a:off x="468360" y="1292040"/>
              <a:ext cx="3456000" cy="718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4"/>
            <p:cNvSpPr/>
            <p:nvPr/>
          </p:nvSpPr>
          <p:spPr>
            <a:xfrm>
              <a:off x="6280200" y="933120"/>
              <a:ext cx="72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5"/>
            <p:cNvSpPr/>
            <p:nvPr/>
          </p:nvSpPr>
          <p:spPr>
            <a:xfrm>
              <a:off x="5148360" y="1365120"/>
              <a:ext cx="3456000" cy="72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7" name="38 Imagen" descr="clip_image192.jpg"/>
          <p:cNvPicPr/>
          <p:nvPr/>
        </p:nvPicPr>
        <p:blipFill>
          <a:blip r:embed="rId1"/>
          <a:stretch/>
        </p:blipFill>
        <p:spPr>
          <a:xfrm>
            <a:off x="642960" y="2000160"/>
            <a:ext cx="7929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NETICA DE UNA ENZIMA ALOSTERICA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760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ulación de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spartato transcarbamilasa (ATC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765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2"/>
            <p:cNvSpPr/>
            <p:nvPr/>
          </p:nvSpPr>
          <p:spPr>
            <a:xfrm>
              <a:off x="228600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3"/>
            <p:cNvSpPr/>
            <p:nvPr/>
          </p:nvSpPr>
          <p:spPr>
            <a:xfrm>
              <a:off x="3962520" y="5867280"/>
              <a:ext cx="2895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Aspartato (m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80960" y="2440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POR MODIFICACION COVAL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10" descr="fi12p10"/>
          <p:cNvPicPr/>
          <p:nvPr/>
        </p:nvPicPr>
        <p:blipFill>
          <a:blip r:embed="rId1"/>
          <a:srcRect l="0" t="0" r="25163" b="82430"/>
          <a:stretch/>
        </p:blipFill>
        <p:spPr>
          <a:xfrm>
            <a:off x="395280" y="3860640"/>
            <a:ext cx="5043600" cy="20815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12"/>
          <p:cNvSpPr/>
          <p:nvPr/>
        </p:nvSpPr>
        <p:spPr>
          <a:xfrm>
            <a:off x="6516720" y="4221000"/>
            <a:ext cx="1928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4"/>
          <p:cNvSpPr/>
          <p:nvPr/>
        </p:nvSpPr>
        <p:spPr>
          <a:xfrm>
            <a:off x="6156360" y="5661000"/>
            <a:ext cx="266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DP-Ribos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539640" y="4365720"/>
            <a:ext cx="1005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6372360" y="5157720"/>
            <a:ext cx="2305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adeni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2700360" y="4365720"/>
            <a:ext cx="1076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179280" y="1557360"/>
            <a:ext cx="8713800" cy="163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POR UNION COVALENTE DE GRUPOS (FOSFATOS , ADENILAT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INTERVIENEN ENZIMAS: QUINASAS, FOSFAT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LA UNION DEL GRUPO PUEDE ACTIVAR O INHIBIR LA ENZIMA POR UN CAMBIO CONFORM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49"/>
          <p:cNvGrpSpPr/>
          <p:nvPr/>
        </p:nvGrpSpPr>
        <p:grpSpPr>
          <a:xfrm>
            <a:off x="684360" y="2054160"/>
            <a:ext cx="7561080" cy="4472280"/>
            <a:chOff x="684360" y="2054160"/>
            <a:chExt cx="7561080" cy="4472280"/>
          </a:xfrm>
        </p:grpSpPr>
        <p:grpSp>
          <p:nvGrpSpPr>
            <p:cNvPr id="783" name="Group 47"/>
            <p:cNvGrpSpPr/>
            <p:nvPr/>
          </p:nvGrpSpPr>
          <p:grpSpPr>
            <a:xfrm>
              <a:off x="3995640" y="3062160"/>
              <a:ext cx="3024360" cy="2160360"/>
              <a:chOff x="3995640" y="3062160"/>
              <a:chExt cx="3024360" cy="2160360"/>
            </a:xfrm>
          </p:grpSpPr>
          <p:sp>
            <p:nvSpPr>
              <p:cNvPr id="784" name="Line 25"/>
              <p:cNvSpPr/>
              <p:nvPr/>
            </p:nvSpPr>
            <p:spPr>
              <a:xfrm flipV="1">
                <a:off x="5219640" y="306216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 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8"/>
            <p:cNvGrpSpPr/>
            <p:nvPr/>
          </p:nvGrpSpPr>
          <p:grpSpPr>
            <a:xfrm>
              <a:off x="965160" y="3062520"/>
              <a:ext cx="2957400" cy="2160360"/>
              <a:chOff x="965160" y="3062520"/>
              <a:chExt cx="2957400" cy="2160360"/>
            </a:xfrm>
          </p:grpSpPr>
          <p:sp>
            <p:nvSpPr>
              <p:cNvPr id="789" name="Line 26"/>
              <p:cNvSpPr/>
              <p:nvPr/>
            </p:nvSpPr>
            <p:spPr>
              <a:xfrm>
                <a:off x="2556000" y="306252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1"/>
              <p:cNvSpPr/>
              <p:nvPr/>
            </p:nvSpPr>
            <p:spPr>
              <a:xfrm>
                <a:off x="96516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 Box 40"/>
            <p:cNvSpPr/>
            <p:nvPr/>
          </p:nvSpPr>
          <p:spPr>
            <a:xfrm>
              <a:off x="3059280" y="31338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Calibri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6"/>
            <p:cNvGrpSpPr/>
            <p:nvPr/>
          </p:nvGrpSpPr>
          <p:grpSpPr>
            <a:xfrm>
              <a:off x="684360" y="5294520"/>
              <a:ext cx="6269040" cy="1231920"/>
              <a:chOff x="684360" y="5294520"/>
              <a:chExt cx="6269040" cy="1231920"/>
            </a:xfrm>
          </p:grpSpPr>
          <p:sp>
            <p:nvSpPr>
              <p:cNvPr id="795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22"/>
              <p:cNvSpPr/>
              <p:nvPr/>
            </p:nvSpPr>
            <p:spPr>
              <a:xfrm>
                <a:off x="6084720" y="5365800"/>
                <a:ext cx="868680" cy="71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9"/>
              <p:cNvSpPr/>
              <p:nvPr/>
            </p:nvSpPr>
            <p:spPr>
              <a:xfrm>
                <a:off x="684360" y="5294520"/>
                <a:ext cx="769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41"/>
              <p:cNvSpPr/>
              <p:nvPr/>
            </p:nvSpPr>
            <p:spPr>
              <a:xfrm>
                <a:off x="2916360" y="615816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Calibri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Text Box 42"/>
            <p:cNvSpPr/>
            <p:nvPr/>
          </p:nvSpPr>
          <p:spPr>
            <a:xfrm>
              <a:off x="2916360" y="349416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5580000" y="277344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Calibri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807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ON POR MODIFICACIO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REGULACION POR PROTEO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ZIMÓ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675640" cy="5113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Formas de expresar la Actividad de una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Unidades Internacionale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ntidad de enzima que cataliza la transformación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</a:t>
            </a:r>
            <a:r>
              <a:rPr b="1" lang="es-ES" sz="2800" spc="-1" strike="noStrike">
                <a:solidFill>
                  <a:srgbClr val="c0504d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 de S por min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357800" y="3214800"/>
            <a:ext cx="4103640" cy="873360"/>
            <a:chOff x="4357800" y="3214800"/>
            <a:chExt cx="4103640" cy="873360"/>
          </a:xfrm>
        </p:grpSpPr>
        <p:sp>
          <p:nvSpPr>
            <p:cNvPr id="111" name="Text Box 6"/>
            <p:cNvSpPr/>
            <p:nvPr/>
          </p:nvSpPr>
          <p:spPr>
            <a:xfrm>
              <a:off x="4357800" y="3503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5292720" y="3214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6229440" y="3719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5365800" y="3646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1"/>
          <p:cNvSpPr/>
          <p:nvPr/>
        </p:nvSpPr>
        <p:spPr>
          <a:xfrm>
            <a:off x="500040" y="342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1 katal = 6 x 1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.I.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3000240" y="5357880"/>
            <a:ext cx="5724360" cy="909360"/>
            <a:chOff x="3000240" y="5357880"/>
            <a:chExt cx="5724360" cy="909360"/>
          </a:xfrm>
        </p:grpSpPr>
        <p:sp>
          <p:nvSpPr>
            <p:cNvPr id="117" name="Text Box 18"/>
            <p:cNvSpPr/>
            <p:nvPr/>
          </p:nvSpPr>
          <p:spPr>
            <a:xfrm>
              <a:off x="3000240" y="56894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5952960" y="5898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5592600" y="57895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4"/>
            <p:cNvSpPr/>
            <p:nvPr/>
          </p:nvSpPr>
          <p:spPr>
            <a:xfrm>
              <a:off x="5089320" y="53578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GULACION POR PROTEIN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n la actividad de enzimas involucradas en el metabolismo celular. Por ej. Indirectamente activando o inhibiendo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glutamina sintetas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RNA polimer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Asn, Gln, Glu, Lys y Arg forman enlaces hidrógenos con las bases de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900000" y="436572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soenzima: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5"/>
          <p:cNvGrpSpPr/>
          <p:nvPr/>
        </p:nvGrpSpPr>
        <p:grpSpPr>
          <a:xfrm>
            <a:off x="2233440" y="1484280"/>
            <a:ext cx="6696000" cy="4465440"/>
            <a:chOff x="2233440" y="1484280"/>
            <a:chExt cx="6696000" cy="4465440"/>
          </a:xfrm>
        </p:grpSpPr>
        <p:sp>
          <p:nvSpPr>
            <p:cNvPr id="830" name="Line 6"/>
            <p:cNvSpPr/>
            <p:nvPr/>
          </p:nvSpPr>
          <p:spPr>
            <a:xfrm>
              <a:off x="34192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7"/>
            <p:cNvSpPr/>
            <p:nvPr/>
          </p:nvSpPr>
          <p:spPr>
            <a:xfrm flipV="1">
              <a:off x="3419280" y="4148640"/>
              <a:ext cx="506160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8"/>
            <p:cNvGrpSpPr/>
            <p:nvPr/>
          </p:nvGrpSpPr>
          <p:grpSpPr>
            <a:xfrm>
              <a:off x="3419280" y="3362760"/>
              <a:ext cx="1041840" cy="1881360"/>
              <a:chOff x="3419280" y="3362760"/>
              <a:chExt cx="1041840" cy="1881360"/>
            </a:xfrm>
          </p:grpSpPr>
          <p:sp>
            <p:nvSpPr>
              <p:cNvPr id="833" name="Line 9"/>
              <p:cNvSpPr/>
              <p:nvPr/>
            </p:nvSpPr>
            <p:spPr>
              <a:xfrm>
                <a:off x="34192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0"/>
              <p:cNvSpPr/>
              <p:nvPr/>
            </p:nvSpPr>
            <p:spPr>
              <a:xfrm>
                <a:off x="44611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11"/>
            <p:cNvSpPr/>
            <p:nvPr/>
          </p:nvSpPr>
          <p:spPr>
            <a:xfrm>
              <a:off x="69944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"/>
            <p:cNvSpPr/>
            <p:nvPr/>
          </p:nvSpPr>
          <p:spPr>
            <a:xfrm>
              <a:off x="63990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3"/>
            <p:cNvGrpSpPr/>
            <p:nvPr/>
          </p:nvGrpSpPr>
          <p:grpSpPr>
            <a:xfrm>
              <a:off x="2233440" y="1649160"/>
              <a:ext cx="6696000" cy="4300560"/>
              <a:chOff x="2233440" y="1649160"/>
              <a:chExt cx="6696000" cy="4300560"/>
            </a:xfrm>
          </p:grpSpPr>
          <p:sp>
            <p:nvSpPr>
              <p:cNvPr id="838" name="Line 14"/>
              <p:cNvSpPr/>
              <p:nvPr/>
            </p:nvSpPr>
            <p:spPr>
              <a:xfrm>
                <a:off x="3419280" y="5278320"/>
                <a:ext cx="506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15"/>
              <p:cNvSpPr/>
              <p:nvPr/>
            </p:nvSpPr>
            <p:spPr>
              <a:xfrm>
                <a:off x="3421440" y="2052360"/>
                <a:ext cx="49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6"/>
              <p:cNvSpPr/>
              <p:nvPr/>
            </p:nvSpPr>
            <p:spPr>
              <a:xfrm>
                <a:off x="3421440" y="2021760"/>
                <a:ext cx="491256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"/>
              <p:cNvSpPr/>
              <p:nvPr/>
            </p:nvSpPr>
            <p:spPr>
              <a:xfrm>
                <a:off x="3419280" y="4203000"/>
                <a:ext cx="491760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18"/>
              <p:cNvSpPr/>
              <p:nvPr/>
            </p:nvSpPr>
            <p:spPr>
              <a:xfrm>
                <a:off x="729216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Calibri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19"/>
              <p:cNvSpPr/>
              <p:nvPr/>
            </p:nvSpPr>
            <p:spPr>
              <a:xfrm>
                <a:off x="669672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20"/>
              <p:cNvSpPr/>
              <p:nvPr/>
            </p:nvSpPr>
            <p:spPr>
              <a:xfrm>
                <a:off x="223344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21"/>
              <p:cNvSpPr/>
              <p:nvPr/>
            </p:nvSpPr>
            <p:spPr>
              <a:xfrm>
                <a:off x="31240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2"/>
              <p:cNvSpPr/>
              <p:nvPr/>
            </p:nvSpPr>
            <p:spPr>
              <a:xfrm>
                <a:off x="46101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3"/>
              <p:cNvSpPr/>
              <p:nvPr/>
            </p:nvSpPr>
            <p:spPr>
              <a:xfrm>
                <a:off x="35078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4"/>
              <p:cNvSpPr/>
              <p:nvPr/>
            </p:nvSpPr>
            <p:spPr>
              <a:xfrm rot="20433000">
                <a:off x="46123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25"/>
              <p:cNvSpPr/>
              <p:nvPr/>
            </p:nvSpPr>
            <p:spPr>
              <a:xfrm>
                <a:off x="69944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23 CuadroTexto"/>
          <p:cNvSpPr/>
          <p:nvPr/>
        </p:nvSpPr>
        <p:spPr>
          <a:xfrm>
            <a:off x="142920" y="2500200"/>
            <a:ext cx="2786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ando la concentración de glucosa en sangre es baja solo actúa la hexoquin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ando es elevada, por ejemplo luego de una comida, actúan ambas: hexoquinasa y glucoquin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3 CuadroTexto"/>
          <p:cNvSpPr/>
          <p:nvPr/>
        </p:nvSpPr>
        <p:spPr>
          <a:xfrm>
            <a:off x="500040" y="42876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BLANCO, A., "Química Biológica", Ed. El Ateneo, 8° Edición, Bs.As, 2006. Reimpresión año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HAMPE, HARVEY, FERRIER, “Bioquímica”,Ed Mac Graw- Hill Interamericana, 3° Edición.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EHNINGER, A.L., NELSON, D., COX, M., "Principios de Bioquímica", Editorial Omega, S.A., 4° Ed., 2006. Reimpresión año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122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124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127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130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133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136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139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142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145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148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151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154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157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158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159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160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161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162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163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164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65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166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167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0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172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173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6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178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179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184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185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190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191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4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5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196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197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9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0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202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203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6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208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209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3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214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215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6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7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8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220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221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2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3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4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226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227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0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1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232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233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6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7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238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239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0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1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2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3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246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247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1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253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254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7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264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276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278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286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293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296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299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304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307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308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309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310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1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312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316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320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324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328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332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336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340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344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348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352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356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8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359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363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367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374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378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268 CuadroTexto"/>
          <p:cNvSpPr/>
          <p:nvPr/>
        </p:nvSpPr>
        <p:spPr>
          <a:xfrm>
            <a:off x="142920" y="56437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75 CuadroTexto"/>
          <p:cNvSpPr/>
          <p:nvPr/>
        </p:nvSpPr>
        <p:spPr>
          <a:xfrm>
            <a:off x="-137520" y="214200"/>
            <a:ext cx="840636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Actividad enzimática por cada miligramo de proteí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3 Rectángulo"/>
          <p:cNvSpPr/>
          <p:nvPr/>
        </p:nvSpPr>
        <p:spPr>
          <a:xfrm>
            <a:off x="428760" y="1090440"/>
            <a:ext cx="8501040" cy="411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Qué cambios ocur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n las reacciones enzimá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ransformaciones químicas en los sistemas biológicos se acompañan de cambios energ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er estos cambios permite entender la lógica y sentido del METABOLISMO celular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seres vivos requieren y utilizan la energía de su entorno, para realizar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3 Rectángulo"/>
          <p:cNvSpPr/>
          <p:nvPr/>
        </p:nvSpPr>
        <p:spPr>
          <a:xfrm>
            <a:off x="857160" y="571680"/>
            <a:ext cx="5357880" cy="5031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ergía libre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Energía de Gibbs): es la fracción de la energía liberada en las reacciones bioquímicas que es disponible para realizar trabajo 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uede predecir el sentido de una reacción química, si ocurrirá espontáneamente 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eno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disminuye (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xerg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á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aumenta (+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derg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CuadroTexto"/>
          <p:cNvSpPr/>
          <p:nvPr/>
        </p:nvSpPr>
        <p:spPr>
          <a:xfrm>
            <a:off x="6588000" y="30718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Cerrar llave"/>
          <p:cNvSpPr/>
          <p:nvPr/>
        </p:nvSpPr>
        <p:spPr>
          <a:xfrm>
            <a:off x="6286680" y="2786040"/>
            <a:ext cx="142560" cy="1143000"/>
          </a:xfrm>
          <a:custGeom>
            <a:avLst/>
            <a:gdLst>
              <a:gd name="textAreaLeft" fmla="*/ 0 w 142560"/>
              <a:gd name="textAreaRight" fmla="*/ 51480 w 14256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6 Cerrar llave"/>
          <p:cNvSpPr/>
          <p:nvPr/>
        </p:nvSpPr>
        <p:spPr>
          <a:xfrm>
            <a:off x="6357960" y="442908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7 Rectángulo"/>
          <p:cNvSpPr/>
          <p:nvPr/>
        </p:nvSpPr>
        <p:spPr>
          <a:xfrm>
            <a:off x="650088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NO 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Diagrama de coordenadas de una reacción enzimática catalizada y sin cat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26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6000840" y="5357880"/>
            <a:ext cx="88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0"/>
          <p:cNvSpPr/>
          <p:nvPr/>
        </p:nvSpPr>
        <p:spPr>
          <a:xfrm>
            <a:off x="3451320" y="2146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5754600" y="2146320"/>
            <a:ext cx="0" cy="24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1650960" y="59468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V="1">
            <a:off x="1650960" y="1488960"/>
            <a:ext cx="0" cy="438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5972040" y="2657520"/>
            <a:ext cx="2314800" cy="842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Energía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de la re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NO cat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357200" y="4425840"/>
            <a:ext cx="928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5"/>
          <p:cNvSpPr/>
          <p:nvPr/>
        </p:nvSpPr>
        <p:spPr>
          <a:xfrm>
            <a:off x="1658880" y="1984320"/>
            <a:ext cx="5680080" cy="366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9"/>
          <p:cNvSpPr/>
          <p:nvPr/>
        </p:nvSpPr>
        <p:spPr>
          <a:xfrm>
            <a:off x="571680" y="11210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bre (G)                    Estado de transición o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4243320" y="5824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eso de la reacción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28 Grupo"/>
          <p:cNvGrpSpPr/>
          <p:nvPr/>
        </p:nvGrpSpPr>
        <p:grpSpPr>
          <a:xfrm>
            <a:off x="1571760" y="4071600"/>
            <a:ext cx="7358040" cy="1487880"/>
            <a:chOff x="1571760" y="4071600"/>
            <a:chExt cx="7358040" cy="1487880"/>
          </a:xfrm>
        </p:grpSpPr>
        <p:sp>
          <p:nvSpPr>
            <p:cNvPr id="408" name="Line 33"/>
            <p:cNvSpPr/>
            <p:nvPr/>
          </p:nvSpPr>
          <p:spPr>
            <a:xfrm>
              <a:off x="3156120" y="4082760"/>
              <a:ext cx="4319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27 Grupo"/>
            <p:cNvGrpSpPr/>
            <p:nvPr/>
          </p:nvGrpSpPr>
          <p:grpSpPr>
            <a:xfrm>
              <a:off x="1571760" y="4071600"/>
              <a:ext cx="7358040" cy="1487880"/>
              <a:chOff x="1571760" y="4071600"/>
              <a:chExt cx="7358040" cy="1487880"/>
            </a:xfrm>
          </p:grpSpPr>
          <p:sp>
            <p:nvSpPr>
              <p:cNvPr id="410" name="Line 24"/>
              <p:cNvSpPr/>
              <p:nvPr/>
            </p:nvSpPr>
            <p:spPr>
              <a:xfrm flipV="1">
                <a:off x="7332840" y="4071600"/>
                <a:ext cx="0" cy="576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3"/>
              <p:cNvSpPr/>
              <p:nvPr/>
            </p:nvSpPr>
            <p:spPr>
              <a:xfrm>
                <a:off x="1643040" y="4071960"/>
                <a:ext cx="4452840" cy="1487520"/>
              </a:xfrm>
              <a:prstGeom prst="pie">
                <a:avLst/>
              </a:pr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22"/>
              <p:cNvSpPr/>
              <p:nvPr/>
            </p:nvSpPr>
            <p:spPr>
              <a:xfrm>
                <a:off x="7572600" y="4143240"/>
                <a:ext cx="1357200" cy="114300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Energía de aactivación de la reacción CAT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8"/>
              <p:cNvSpPr/>
              <p:nvPr/>
            </p:nvSpPr>
            <p:spPr>
              <a:xfrm>
                <a:off x="1571760" y="4602240"/>
                <a:ext cx="58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37"/>
              <p:cNvSpPr/>
              <p:nvPr/>
            </p:nvSpPr>
            <p:spPr>
              <a:xfrm>
                <a:off x="2349360" y="4641480"/>
                <a:ext cx="91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8"/>
              <p:cNvSpPr/>
              <p:nvPr/>
            </p:nvSpPr>
            <p:spPr>
              <a:xfrm>
                <a:off x="3564000" y="4641480"/>
                <a:ext cx="833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30 Conector recto"/>
          <p:cNvSpPr/>
          <p:nvPr/>
        </p:nvSpPr>
        <p:spPr>
          <a:xfrm>
            <a:off x="1658880" y="4548240"/>
            <a:ext cx="427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3 Rectángulo"/>
          <p:cNvSpPr/>
          <p:nvPr/>
        </p:nvSpPr>
        <p:spPr>
          <a:xfrm>
            <a:off x="1643040" y="571680"/>
            <a:ext cx="6215040" cy="667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Energía de activación (Ea)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energía necesaria para alcanzar el estado act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estado de transición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 o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barrera de activ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representa los cambios que se generan en la molécula de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por esto que las reacciones sin catalizar tienden a ser muy l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moléculas biológicas son muy estables al pH neutro, temperatura suave y ambiente acuoso en el interior de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reacciones químicas celulares se llevan a cabo porque </a:t>
            </a:r>
            <a:r>
              <a:rPr b="0" i="1" lang="es-MX" sz="1800" spc="-1" strike="noStrike">
                <a:solidFill>
                  <a:srgbClr val="0000ff"/>
                </a:solidFill>
                <a:latin typeface="Arial"/>
              </a:rPr>
              <a:t>las enzimas actúan disminuyendo la barrera energética entre el S y el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ff"/>
                </a:solidFill>
                <a:latin typeface="Arial"/>
              </a:rPr>
              <a:t>Las enzimas actúan disminuyendo la 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21:38:10Z</dcterms:created>
  <dc:creator>ali y facu</dc:creator>
  <dc:description/>
  <dc:language>en-US</dc:language>
  <cp:lastModifiedBy>ali y facu</cp:lastModifiedBy>
  <dcterms:modified xsi:type="dcterms:W3CDTF">2014-08-27T23:56:51Z</dcterms:modified>
  <cp:revision>99</cp:revision>
  <dc:subject/>
  <dc:title>Diapositiva 1</dc:title>
</cp:coreProperties>
</file>